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8F4F9-6B76-4129-8338-2CDE31661D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249DF-8F08-4D60-9087-C04112AA25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4D09E-EFF0-4861-8085-74B76E5BF3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41ABA-DFA4-491E-8C06-230D0CDB43B2}" type="datetime3">
              <a:rPr b="0" lang="en-US" sz="1200" spc="-1" strike="noStrike">
                <a:solidFill>
                  <a:srgbClr val="000000"/>
                </a:solidFill>
                <a:latin typeface="Arial"/>
              </a:rPr>
              <a:t>July 31,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09F8E-85BB-47C7-B72C-BB18E57C0C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9021D-99A4-42CF-9477-38A7CB7A32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FC007-2543-44BA-8188-CA5997E4BA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C22C6D-25C8-46CE-A2B2-8374333F80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8EAAB-8B43-444B-8F6F-FD72CC59F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63345D-1E99-4FFD-A750-91D7BFEA2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A38912-A431-4FD4-BD2B-6A67AA211A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C3ED5D-552B-4BBF-9BC4-974854E79C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3286BC-5F71-44CB-B1C3-168576F222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B6DAAA-D325-4F84-B2CE-765ABD217E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F5EB4B-108A-43C9-B3E5-2F8D0CA655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9725FB-18EF-46D0-B706-DC93C597F4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82207D-2C7E-44EA-8787-7CEF258E49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C936C6-BD9E-4BE2-91BF-50BB52EF0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5C128-D019-41E5-B0F2-E64B675A6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D4F36-A0B8-453C-89B3-C6AF164E8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C0CCF-EC68-4DE9-A566-CD3280D77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54BE5B-3090-4B7B-8893-C109F4F979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D82C1A-E2C0-4569-B64C-5BEE62C5EF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A5187F-756D-43BA-A6EF-A5CD63B239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10D19-541C-4892-9E16-4EE4AA025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6A815-5C6F-422D-8DBA-61E07A9C8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7C62B-534E-4231-A520-FFA740AE2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0A699-CD22-4E6F-BD80-D4FA9218D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2AE92-2FFD-46D3-A2B2-8CB8887BD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BD9D9-FCBF-4A28-8A3E-E62FB78DA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31EC9-3CB6-4803-9BBE-AA968672F4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63707-DFC2-4C60-BE8A-644DD7B367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0C379AE-F8F4-4451-872C-F10CB104A4E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5170547-623D-40B6-8A74-FCEAF8F23CE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6C8E2-1B0F-4E0A-B77A-DD20E8AF8D7D}"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9E71C-4C79-43BF-BCA7-7B28C99818D9}"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